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20A96-6A6B-4EE2-B699-CFD944FC947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5BE12-CDFE-4F70-9965-1FAC1C6198D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0E9-5938-4B89-89FE-60EC301E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B08-83B8-470E-807B-59CE0463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A87-8468-4E78-A4DC-9B3FAE34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28D-EEBA-4099-A023-81B381B4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18D-2753-4A8F-9873-C7CA164D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A27-C6CA-4D9A-93D0-B5A9B2F2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0D7-ED2C-4C7C-B0A0-585678B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9A6-1F12-414D-831E-F6141ACC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50B-6A0A-47C1-B2EA-FCF7EBBA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A82-3A34-46E5-8A59-3A3FCD4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4DD-01A2-4431-8736-54A76DD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CAE-98B3-4D5C-A072-2996798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42446-B7DD-46ED-B677-F89C811B8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D91D9-CF91-45A0-8EA1-71481CD22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476600" y="468936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 Employment Access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Last revised October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urce Centre works on a walk-in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r email to register for worksh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Employment Consultant available for drop-in intakes everyday on a first-come first-served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Consultants will refer clients to the most appropriat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set up specific appointments by phone or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ow to Register or 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mal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2440" y="1676520"/>
            <a:ext cx="63054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YEAC makes official referrals to the following programs/age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SEB-Ontario Self Employment Benefit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CP-Job Creation Partnership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-Second Career / FeePayer / Long Tenure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Practice Firms (Experica or Canad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BS-Literacy and Basic Ski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cclaim Abil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tario March of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useway Work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adian Hearing Society (Job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vidual support from a Job Developer with job search, networ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Information on Health and Safety in the workplace and Workers’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matching job seekers’ skills and interests with job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rt with securing apprentice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Apprenticeship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on-the-job training 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Help with identifying and resolving workplac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/Training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upport for long-term attachment or advancement in the lab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ccess to mentors and 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of mentor/coach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velopment of a support plan to enhance employability and job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and follow-up of work 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for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2440" y="1676520"/>
            <a:ext cx="617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e distribution and advertisement of job post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-screened candidates for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nsitivity and diversi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wage/training subsidy for 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tching of appren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ility of Apprenticeship Signing B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nitoring of placements during/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and money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for hosting of information sessions o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52440" y="1814400"/>
            <a:ext cx="617544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entral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80 Argyle Avenue, 4th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-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-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-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2440" y="1814400"/>
            <a:ext cx="645804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est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rivale Mall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–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–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–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*Note: This temporary location will officially open Novem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Other EE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52440" y="2108160"/>
            <a:ext cx="6305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ers (Y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Ontario Self Employment Benef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2440" y="1790640"/>
            <a:ext cx="6305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nancial assistance provided to eligible participants for a fixed period of time while starting a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cess to business related seminars and one-on-one support from a business consul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erral required, possible through the YE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ederal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Public Sector Youth Internship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6320" y="1798560"/>
            <a:ext cx="6324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practical work experience through a paid internship and placement with a mentor for youth within the Federal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ive one-on-one support from an Employment Counsellor during the inter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is a charitable, voluntary, community based association dedicated to improving the quality of life for children, youth, adults and families through programs that build spirit, mind and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provides opportunities for personal growth and character development by providing unique and contemporary programs for everyone regardless of race, religion, creed, ability or economic circum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Kanata Employment Resour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loyment resource centre with information on labour market, apprenticeships, retraining and commun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kshops facilitated include Resume Writing, Job Search and Interview Techniques along with Employer Inform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Language Assessment &amp; Referral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6320" y="1798560"/>
            <a:ext cx="63244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anguage Assessments in English or French, based on the Canadian Language Benchmarks (C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ferrals to language training in English or French, such as LINC/CLIC (Language Instruction for Newcomers to Canada), ELT/CLNA (Enhanced Language Training) and OSLT/FLAP (Occupation Specific Language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pending on eligibility, access to FREE childcare, transportation allowance, full time and part time classes, beginner to advanced levels as well as employment focused language training and progr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Newcomer Information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6320" y="1935000"/>
            <a:ext cx="63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formation and referral services for newcomers to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 Centre with access to computers, community information, events and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ultilingual staff and community settlement specialists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ious workshops and information sessions facilitated by NIC staff, community partners and leaders, professional associations and emplo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Youth Gambling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ention and education programs to help promote  awareness of possible harm associated with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awareness outreach in variou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ral to treat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Pj04395360000[1]"/>
          <p:cNvPicPr/>
          <p:nvPr/>
        </p:nvPicPr>
        <p:blipFill>
          <a:blip r:embed="rId2"/>
          <a:stretch/>
        </p:blipFill>
        <p:spPr>
          <a:xfrm>
            <a:off x="733320" y="2679840"/>
            <a:ext cx="5257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eorgi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YSigColour-BilPC"/>
          <p:cNvPicPr/>
          <p:nvPr/>
        </p:nvPicPr>
        <p:blipFill>
          <a:blip r:embed="rId2"/>
          <a:stretch/>
        </p:blipFill>
        <p:spPr>
          <a:xfrm>
            <a:off x="352440" y="2108160"/>
            <a:ext cx="582120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W-Tag"/>
          <p:cNvPicPr/>
          <p:nvPr/>
        </p:nvPicPr>
        <p:blipFill>
          <a:blip r:embed="rId3"/>
          <a:stretch/>
        </p:blipFill>
        <p:spPr>
          <a:xfrm>
            <a:off x="1266840" y="4292640"/>
            <a:ext cx="352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ed in Ottawa in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MCA &amp; YWCA amalgamated in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er of licensed child care since 1890 – largest in Ca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1942 started Carlet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ing member of Unit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to introduce residence camping in Easter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res open in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b Connects opens in 2005 at NC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CC and JC fuse and become YEAC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Y Employment Enterprise and Newcomer Services (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81160" y="1809720"/>
            <a:ext cx="6348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Access Centres (E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What is the Y Employment Access Cen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979640"/>
            <a:ext cx="6175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YEAC is an employment program that offer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E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to job seekers and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AC is a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rogram funded by the Ontario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s a variety of interventions to assist Ontarians with obtaining sustainabl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various services to employers who are licensed to operate i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e Components of Employ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 Information &amp;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) Job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) Job Matching, Placement &amp;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) Job/Training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Referral (I&amp;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2108160"/>
            <a:ext cx="630540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ree public resource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ccess to current job pos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mputers with Internet access and résumé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axing, printing, phone and photocop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arious employment related worksh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renticeship program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tion and referral to various community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sumé critiquing and interview prep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stribution of job postings by e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*there is no eligibility criteria for thes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/Employment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Eligibility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Not in full-time school/training (more than 20 hours/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employed or working less than 20 hours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igible to work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Resid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1676520"/>
            <a:ext cx="630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dividualized support and meetings with an Employment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sistance and coaching in resumé development, job search and networking strategies, interview preparation, career exploration and m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larification on employment and training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stablish short and long term go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velop an Employment Service Pla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pport and referral with Second Career and other funded MTCU progr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ccess to the Ottawa Job Match Network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*for those who qualif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57:31Z</dcterms:modified>
  <cp:revision>22</cp:revision>
  <dc:subject/>
  <dc:title>Slide 1</dc:title>
</cp:coreProperties>
</file>